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577F-648A-46F7-B695-27BCC345B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DD5C-E8A7-4667-8229-41BE0A7A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DF1B-BBF6-431B-9774-48C0C1A9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A7B9-E115-4BA5-9436-2B0317DE9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B7BC-BED1-4917-81EA-C0859D6A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8070-4887-48E8-B563-190B668D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3403-5C06-4B29-A6D3-E95CC7EA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D462-5A90-416F-8503-A0893E9C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E9F7-993D-4D36-A0C8-B4F0C74C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1232-AAC0-43AC-AFD2-3D2BE2D7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61FB-5543-4F23-8EFC-A2D20718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B247-209D-4C8D-B133-D9A28BA0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D503-1307-4063-9F77-75056B1A0CD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09:29:37Z</dcterms:modified>
  <cp:revision>377</cp:revision>
  <dc:subject/>
  <dc:title>Diapositiva 1</dc:title>
</cp:coreProperties>
</file>